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10.pct" ContentType="image/x-pict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1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2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3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4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5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6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63760" y="3746520"/>
            <a:ext cx="3619800" cy="9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567684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82760" y="127008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82760" y="405144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965160" y="3759120"/>
            <a:ext cx="3619440" cy="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453960" indent="-28260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47080" indent="-28116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marL="124920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marL="165168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marL="205416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marL="205416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marL="205416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90360" y="711000"/>
            <a:ext cx="8178840" cy="619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435600" indent="-27108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12880" indent="-26964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marL="119880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marL="158508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marL="197100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marL="1971000" indent="-270000">
              <a:spcBef>
                <a:spcPts val="45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marL="1971000" indent="-270000">
              <a:spcBef>
                <a:spcPts val="45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04360" indent="-2829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1" marL="897120" indent="-2811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2" marL="1299600" indent="-2811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3" marL="170208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4" marL="210420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5" marL="2104200" indent="-281520">
              <a:spcBef>
                <a:spcPts val="7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6" marL="2104200" indent="-281520">
              <a:spcBef>
                <a:spcPts val="7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931000" y="1942920"/>
            <a:ext cx="323856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1000"/>
          </a:bodyPr>
          <a:p>
            <a:pPr marL="30996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59292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88128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16964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45836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458360" indent="-18684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458360" indent="-18684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34488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659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98028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30140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34488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65952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98028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30140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62252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87028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brion@wikimedia.org" TargetMode="External"/><Relationship Id="rId3" Type="http://schemas.openxmlformats.org/officeDocument/2006/relationships/hyperlink" Target="mailto:brion@wikimedia.org" TargetMode="External"/><Relationship Id="rId4" Type="http://schemas.openxmlformats.org/officeDocument/2006/relationships/hyperlink" Target="mailto:brion@wikimedia.org" TargetMode="External"/><Relationship Id="rId5" Type="http://schemas.openxmlformats.org/officeDocument/2006/relationships/hyperlink" Target="mailto:brion@wikimedia.org" TargetMode="External"/><Relationship Id="rId6" Type="http://schemas.openxmlformats.org/officeDocument/2006/relationships/hyperlink" Target="mailto:brion@wikimedia.org" TargetMode="External"/><Relationship Id="rId7" Type="http://schemas.openxmlformats.org/officeDocument/2006/relationships/hyperlink" Target="mailto:brion@pobox.com" TargetMode="External"/><Relationship Id="rId8" Type="http://schemas.openxmlformats.org/officeDocument/2006/relationships/hyperlink" Target="mailto:brion@pobox.com" TargetMode="External"/><Relationship Id="rId9" Type="http://schemas.openxmlformats.org/officeDocument/2006/relationships/hyperlink" Target="mailto:brion@pobox.com" TargetMode="External"/><Relationship Id="rId10" Type="http://schemas.openxmlformats.org/officeDocument/2006/relationships/hyperlink" Target="mailto:brion@pobox.com" TargetMode="External"/><Relationship Id="rId11" Type="http://schemas.openxmlformats.org/officeDocument/2006/relationships/hyperlink" Target="mailto:brion@pobox.com" TargetMode="External"/><Relationship Id="rId1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brion@wikimedia.org" TargetMode="External"/><Relationship Id="rId3" Type="http://schemas.openxmlformats.org/officeDocument/2006/relationships/hyperlink" Target="mailto:brion@wikimedia.org" TargetMode="External"/><Relationship Id="rId4" Type="http://schemas.openxmlformats.org/officeDocument/2006/relationships/hyperlink" Target="mailto:brion@wikimedia.org" TargetMode="External"/><Relationship Id="rId5" Type="http://schemas.openxmlformats.org/officeDocument/2006/relationships/hyperlink" Target="mailto:brion@wikimedia.org" TargetMode="External"/><Relationship Id="rId6" Type="http://schemas.openxmlformats.org/officeDocument/2006/relationships/hyperlink" Target="mailto:brion@wikimedia.org" TargetMode="External"/><Relationship Id="rId7" Type="http://schemas.openxmlformats.org/officeDocument/2006/relationships/hyperlink" Target="mailto:brion@pobox.com" TargetMode="External"/><Relationship Id="rId8" Type="http://schemas.openxmlformats.org/officeDocument/2006/relationships/hyperlink" Target="mailto:brion@pobox.com" TargetMode="External"/><Relationship Id="rId9" Type="http://schemas.openxmlformats.org/officeDocument/2006/relationships/hyperlink" Target="mailto:brion@pobox.com" TargetMode="External"/><Relationship Id="rId10" Type="http://schemas.openxmlformats.org/officeDocument/2006/relationships/hyperlink" Target="mailto:brion@pobox.com" TargetMode="External"/><Relationship Id="rId11" Type="http://schemas.openxmlformats.org/officeDocument/2006/relationships/hyperlink" Target="mailto:brion@pobox.com" TargetMode="External"/><Relationship Id="rId1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brion@wikimedia.org" TargetMode="External"/><Relationship Id="rId3" Type="http://schemas.openxmlformats.org/officeDocument/2006/relationships/hyperlink" Target="mailto:brion@wikimedia.org" TargetMode="External"/><Relationship Id="rId4" Type="http://schemas.openxmlformats.org/officeDocument/2006/relationships/hyperlink" Target="mailto:brion@wikimedia.org" TargetMode="External"/><Relationship Id="rId5" Type="http://schemas.openxmlformats.org/officeDocument/2006/relationships/hyperlink" Target="mailto:brion@wikimedia.org" TargetMode="External"/><Relationship Id="rId6" Type="http://schemas.openxmlformats.org/officeDocument/2006/relationships/hyperlink" Target="mailto:brion@wikimedia.org" TargetMode="External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brion@wikimedia.org" TargetMode="External"/><Relationship Id="rId3" Type="http://schemas.openxmlformats.org/officeDocument/2006/relationships/hyperlink" Target="mailto:brion@wikimedia.org" TargetMode="External"/><Relationship Id="rId4" Type="http://schemas.openxmlformats.org/officeDocument/2006/relationships/hyperlink" Target="mailto:brion@wikimedia.org" TargetMode="External"/><Relationship Id="rId5" Type="http://schemas.openxmlformats.org/officeDocument/2006/relationships/hyperlink" Target="mailto:brion@pobox.com" TargetMode="External"/><Relationship Id="rId6" Type="http://schemas.openxmlformats.org/officeDocument/2006/relationships/hyperlink" Target="mailto:brion@pobox.com" TargetMode="External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brion@wikimedia.org" TargetMode="External"/><Relationship Id="rId3" Type="http://schemas.openxmlformats.org/officeDocument/2006/relationships/hyperlink" Target="mailto:brion@wikimedia.org" TargetMode="External"/><Relationship Id="rId4" Type="http://schemas.openxmlformats.org/officeDocument/2006/relationships/hyperlink" Target="mailto:brion@wikimedia.org" TargetMode="External"/><Relationship Id="rId5" Type="http://schemas.openxmlformats.org/officeDocument/2006/relationships/hyperlink" Target="mailto:brion@pobox.com" TargetMode="External"/><Relationship Id="rId6" Type="http://schemas.openxmlformats.org/officeDocument/2006/relationships/hyperlink" Target="mailto:brion@pobox.com" TargetMode="External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brion@wikimedia.org" TargetMode="External"/><Relationship Id="rId3" Type="http://schemas.openxmlformats.org/officeDocument/2006/relationships/hyperlink" Target="mailto:brion@wikimedia.org" TargetMode="External"/><Relationship Id="rId4" Type="http://schemas.openxmlformats.org/officeDocument/2006/relationships/hyperlink" Target="mailto:brion@wikimedia.org" TargetMode="External"/><Relationship Id="rId5" Type="http://schemas.openxmlformats.org/officeDocument/2006/relationships/hyperlink" Target="mailto:brion@wikimedia.org" TargetMode="External"/><Relationship Id="rId6" Type="http://schemas.openxmlformats.org/officeDocument/2006/relationships/hyperlink" Target="mailto:brion@wikimedia.org" TargetMode="External"/><Relationship Id="rId7" Type="http://schemas.openxmlformats.org/officeDocument/2006/relationships/hyperlink" Target="mailto:brion@pobox.com" TargetMode="External"/><Relationship Id="rId8" Type="http://schemas.openxmlformats.org/officeDocument/2006/relationships/hyperlink" Target="mailto:brion@pobox.com" TargetMode="External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What's cooking in MediaWiki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ingle sign-on, version tagging, and other goodies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374040" y="6374880"/>
            <a:ext cx="32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Brion Vibber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edia Foundation, Inc.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3" name=""/>
          <p:cNvSpPr/>
          <p:nvPr/>
        </p:nvSpPr>
        <p:spPr>
          <a:xfrm>
            <a:off x="7827480" y="6368760"/>
            <a:ext cx="1855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ania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ambridge, MA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4" name=""/>
          <p:cNvSpPr/>
          <p:nvPr/>
        </p:nvSpPr>
        <p:spPr>
          <a:xfrm>
            <a:off x="4174560" y="6527520"/>
            <a:ext cx="177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August 5, 2006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Merge unused account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90360" y="1943280"/>
            <a:ext cx="8178840" cy="2806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ome accounts have never actually been used for editing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ese can be reclaimed with little conflict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4788000"/>
            <a:ext cx="7404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lu_dbname | lu_id | lu_name | lu_email            | lu_editcount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en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2"/>
              </a:rPr>
              <a:t>brion@wikimedia.org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420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fr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7900"/>
                </a:solidFill>
                <a:uFillTx/>
                <a:latin typeface="Monaco"/>
                <a:ea typeface="Monaco"/>
              </a:rPr>
              <a:t>brion@wikimedia.org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3"/>
              </a:rPr>
              <a:t>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4"/>
              </a:rPr>
              <a:t>1337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5"/>
              </a:rPr>
              <a:t>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6"/>
              </a:rPr>
              <a:t>|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 jawiki    | 500   | Brion   |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87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7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8"/>
              </a:rPr>
              <a:t>srwiki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9"/>
              </a:rPr>
              <a:t>   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0"/>
              </a:rPr>
              <a:t>70</a:t>
            </a:r>
            <a:r>
              <a:rPr b="0" lang="en-US" sz="1400" spc="-1" strike="noStrike" u="sng">
                <a:solidFill>
                  <a:srgbClr val="00cd08"/>
                </a:solidFill>
                <a:uFillTx/>
                <a:latin typeface="Monaco"/>
                <a:ea typeface="Monaco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cd08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1"/>
              </a:rPr>
              <a:t>----+---------+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First login: password check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679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504360" indent="-2829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e next time the person logs in, we can merge any remaining accounts with matching passwords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4360" indent="-2829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Encrypted password storage means we can’t compare them until the user types it in for us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4788000"/>
            <a:ext cx="7404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lu_dbname | lu_id | lu_name | lu_email            | lu_editcount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en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2"/>
              </a:rPr>
              <a:t>brion@wikimedia.org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420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fr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7900"/>
                </a:solidFill>
                <a:uFillTx/>
                <a:latin typeface="Monaco"/>
                <a:ea typeface="Monaco"/>
              </a:rPr>
              <a:t>brion@wikimedia.org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3"/>
              </a:rPr>
              <a:t>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4"/>
              </a:rPr>
              <a:t>1337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5"/>
              </a:rPr>
              <a:t>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6"/>
              </a:rPr>
              <a:t>|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ja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50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cd08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87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7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8"/>
              </a:rPr>
              <a:t>srwiki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9"/>
              </a:rPr>
              <a:t>   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0"/>
              </a:rPr>
              <a:t>70</a:t>
            </a:r>
            <a:r>
              <a:rPr b="0" lang="en-US" sz="1400" spc="-1" strike="noStrike" u="sng">
                <a:solidFill>
                  <a:srgbClr val="007900"/>
                </a:solidFill>
                <a:uFillTx/>
                <a:latin typeface="Monaco"/>
                <a:ea typeface="Monaco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79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1"/>
              </a:rPr>
              <a:t>----+---------+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Yay, done!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1943280"/>
            <a:ext cx="8178840" cy="252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504360" indent="-2829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If everything could be matched like this, the accounts have been merged totally transparently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4360" indent="-2829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Just keep logging in like before, but now it works on wikis you haven’t visited before, too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4788000"/>
            <a:ext cx="7404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lu_dbname | lu_id | lu_name | lu_email            | lu_editcount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en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2"/>
              </a:rPr>
              <a:t>brion@wikimedia.org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420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fr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7900"/>
                </a:solidFill>
                <a:uFillTx/>
                <a:latin typeface="Monaco"/>
                <a:ea typeface="Monaco"/>
              </a:rPr>
              <a:t>brion@wikimedia.org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3"/>
              </a:rPr>
              <a:t>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4"/>
              </a:rPr>
              <a:t>1337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5"/>
              </a:rPr>
              <a:t>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6"/>
              </a:rPr>
              <a:t>|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ja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50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79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87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sr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70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79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onflict resolution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It won’t always go smooth, of course...</a:t>
            </a:r>
            <a:br>
              <a:rPr sz="2800"/>
            </a:b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We have to resolve conflicts if there are accounts with: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issing or different email addres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ND different passwor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ND have been used for edit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304920"/>
            <a:ext cx="83822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Where do conflicts come from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Registered by same person, but didn’t keep passwords and email synchronize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R registered maliciously by an impersonator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R registered by a different person legitimately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Resolving false conflict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ccounts that are owned by the same person but couldn’t be matched automatically can be resolved on login: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onfirm you know both passwords by logging in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R reset the password by e-mai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Resolving true conflict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s is harder, but possible: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n login, the minority account holder will have the option of renaming their account so it no longer conflict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fter some time has passed (weeks?), remaining non-matching accounts may be forcefully renamed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Single user statu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2000"/>
          </a:bodyPr>
          <a:p>
            <a:pPr marL="468720" indent="-2628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s has been delayed a long time because every time devs discuss this, it becomes a big fight. Details are non-negotiable or we’ll get sidetracked again!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68720" indent="-2628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asic back-end login and auto-transition code working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68720" indent="-2628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hould be ready for live transition tests later this month, and can go live afterward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68720" indent="-2628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ay delay final transition until Wikimedia board election is complete to avoid breaking vot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Stable revision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tagging isn’t always a crime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Visibility control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504360" indent="-2829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173d"/>
                </a:solidFill>
                <a:latin typeface="Gill Sans"/>
              </a:rPr>
              <a:t>We</a:t>
            </a: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 know that Wikipedia is a work-in-progress and vandalism is temporary and harmles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4360" indent="-2829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ut </a:t>
            </a:r>
            <a:r>
              <a:rPr b="1" lang="en-US" sz="2800" spc="-1" strike="noStrike">
                <a:solidFill>
                  <a:srgbClr val="1a173d"/>
                </a:solidFill>
                <a:latin typeface="Gill Sans"/>
              </a:rPr>
              <a:t>random visitors</a:t>
            </a: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 to the site don’t know this!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4360" indent="-2829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 short time-delay or sometimes explicit approval before updating the view could perhaps reduce the impact of vandalism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97120" indent="-28116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Keep it easy to find and fix with a visible notice of new, hidden version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Too many accounts!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90360" y="1422000"/>
            <a:ext cx="8178840" cy="209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Each language and project has its own set of user account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-1790640" y="3111480"/>
            <a:ext cx="3486240" cy="34545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1739880" y="3111480"/>
            <a:ext cx="3343320" cy="3441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5122800" y="3139920"/>
            <a:ext cx="3340080" cy="34005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8524800" y="3149640"/>
            <a:ext cx="3409920" cy="3378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5560" y="774720"/>
            <a:ext cx="10109160" cy="60706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2044800" y="2755800"/>
            <a:ext cx="7797600" cy="41277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2158920" y="2006640"/>
            <a:ext cx="770904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Revision tagging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6000"/>
          </a:bodyPr>
          <a:p>
            <a:pPr marL="489240" indent="-2743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Planned for experiments on German Wikipedia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489240" indent="-2743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Possible uses: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0120" indent="-272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arking stable versions for display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0120" indent="-272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arking reviewed versions for publishing subset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0120" indent="-2725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llowing edits on locked articles while default visitor view is to the last-checked version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Neat? What’s so hard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emplates and images!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ay be vandalized or changed incompatibly since the original version was marke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 stable revision with a bunch of vandalism in a template... not so great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How can we solve this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rack the revision ID of the tagged page version..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173d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 the current revision IDs of each template use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173d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 the version of each image use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Err, what’s that mean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Unlike protected pages today, tagged versions will always display the same..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even if someone changes the templates and images it uses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But who makes the decisions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ye, that’s a good question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ost likely, ‘protection’-style tagging will be done by sysops like today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Publishing tagging may be done by ad-hoc groups?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It’s still in experimental planning, details up in the air..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What about ratings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Ratings or reputation systems could become part of how taggable revisions are identified, though automation might be too scary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Revision tagging statu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ome back-end proof-of-concept code has been done to confirm the template versioning can work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UI mockups for versioning badg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till needs final decisions on how it will be use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Depending on developer load and community excitement, will see the light of day in one to three month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OpenID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multi-site authentication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use your Wikimedia account to identify your posts on blogs and wikis supporting OpenI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use your blog or wiki account to identify your edits on Wikimedia wiki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 step up from anonymous IP address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990360" y="711000"/>
            <a:ext cx="8178840" cy="619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s makes cross-wiki operations like uploading an image to Commons harder: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log in again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have to create your account a second (third, fourth) tim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ometimes a username belongs to different people on two project or language wikis, creating confusion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OpenID statu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Evan Prodromou’s OpenID extension code available in Subversion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Live on Wikitra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Planned to go live on Wikimedia sites after single user unification is complet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153680" y="2706120"/>
            <a:ext cx="18403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1a173d"/>
                </a:solidFill>
                <a:latin typeface="Gill Sans"/>
                <a:ea typeface="Gill Sans"/>
              </a:rPr>
              <a:t>?&gt;</a:t>
            </a:r>
            <a:endParaRPr b="0" lang="en-US" sz="144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4" name=""/>
          <p:cNvSpPr/>
          <p:nvPr/>
        </p:nvSpPr>
        <p:spPr>
          <a:xfrm>
            <a:off x="374040" y="6374880"/>
            <a:ext cx="32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Brion Vibber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edia Foundation, Inc.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5" name=""/>
          <p:cNvSpPr/>
          <p:nvPr/>
        </p:nvSpPr>
        <p:spPr>
          <a:xfrm>
            <a:off x="7827480" y="6368760"/>
            <a:ext cx="1855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ania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ambridge, MA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96" name=""/>
          <p:cNvSpPr/>
          <p:nvPr/>
        </p:nvSpPr>
        <p:spPr>
          <a:xfrm>
            <a:off x="4174560" y="6527520"/>
            <a:ext cx="177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August 5, 2006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Let the same username and password work for logging in on any Wikimedia project wiki, once created a single tim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Let the same username belong to the same person on all Wikimedia project wiki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Immediate goal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Long-term goal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nly have to log in once per session for all Wikimedia wiki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ay require some fancy cookie work, so likely not immediately activ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Use unified accounts to support inter-site protocols such as OpenID authentication cleanly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ad answer: nobody got around to central user database support until hundreds of separate wikis were already in plac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ransition pain: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onverting database entri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erging account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990360" y="7873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Why doesn’t it work like this to start with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Transition!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1472760"/>
            <a:ext cx="8178840" cy="3048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asic user data collected into a transitional database to be merged..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4788000"/>
            <a:ext cx="7404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lu_dbname | lu_id | lu_name | lu_email            | lu_editcount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enwiki    | 1     | Brion  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2"/>
              </a:rPr>
              <a:t>brion@wikimedia.org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| 4200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frwiki    | 30    | Brion   |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brion@wikimedia.org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3"/>
              </a:rPr>
              <a:t> | 1337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4"/>
              </a:rPr>
              <a:t>|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 jawiki    | 500   | Brion   |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87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5"/>
              </a:rPr>
              <a:t> srwiki    | 70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0   | Brion   |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0 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6"/>
              </a:rPr>
              <a:t>----+---------+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Assign an account owner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679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e global account is assigned first to the owner of one of the local wikis’ accounts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In most cases, this will just be the account with the most edits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788000"/>
            <a:ext cx="7404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lu_dbname | lu_id | lu_name | lu_email            | lu_editcount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en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2"/>
              </a:rPr>
              <a:t>brion@wikimedia.org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420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frwiki    | 30    | Brion   |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brion@wikimedia.org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3"/>
              </a:rPr>
              <a:t> | 1337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4"/>
              </a:rPr>
              <a:t>|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 jawiki    | 500   | Brion   |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87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5"/>
              </a:rPr>
              <a:t> srwiki    | 70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0   | Brion   |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0 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6"/>
              </a:rPr>
              <a:t>----+---------+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E-mail match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958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ny accounts with matching e-mail are next attached automatically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Passwords can be reset by e-mail, so any account with matching e-mail can be accessed by the same person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0" y="4788000"/>
            <a:ext cx="7404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lu_dbname | lu_id | lu_name | lu_email            | lu_editcount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----+---------+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en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2"/>
              </a:rPr>
              <a:t>brion@wikimedia.org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| </a:t>
            </a:r>
            <a:r>
              <a:rPr b="0" lang="en-US" sz="1400" spc="-1" strike="noStrike">
                <a:solidFill>
                  <a:srgbClr val="007900"/>
                </a:solidFill>
                <a:latin typeface="Monaco"/>
                <a:ea typeface="Monaco"/>
              </a:rPr>
              <a:t>420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frwiki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| </a:t>
            </a:r>
            <a:r>
              <a:rPr b="0" lang="en-US" sz="1400" spc="-1" strike="noStrike">
                <a:solidFill>
                  <a:srgbClr val="00cd08"/>
                </a:solidFill>
                <a:latin typeface="Monaco"/>
                <a:ea typeface="Monaco"/>
              </a:rPr>
              <a:t>Brion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| </a:t>
            </a:r>
            <a:r>
              <a:rPr b="0" lang="en-US" sz="1400" spc="-1" strike="noStrike" u="sng">
                <a:solidFill>
                  <a:srgbClr val="00cd08"/>
                </a:solidFill>
                <a:uFillTx/>
                <a:latin typeface="Monaco"/>
                <a:ea typeface="Monaco"/>
              </a:rPr>
              <a:t>brion@wikimedia.org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3"/>
              </a:rPr>
              <a:t> |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4"/>
              </a:rPr>
              <a:t>1337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5"/>
              </a:rPr>
              <a:t>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6"/>
              </a:rPr>
              <a:t>|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 jawiki    | 500   | Brion   |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87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|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7"/>
              </a:rPr>
              <a:t> srwiki    | 70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0   | Brion   |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brion@pobox.com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     | 0            |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  <a:ea typeface="Monaco"/>
              </a:rPr>
              <a:t>+-----------+---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8"/>
              </a:rPr>
              <a:t>----+---------+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---------------------+--------------+</a:t>
            </a: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